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AF0-A1F6-40ED-8993-6B53B76C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8BD-358B-4562-9EF0-EFBBD8F1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8C2-A127-4B28-BD90-7B5C144F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6BF-AA73-4CEE-962A-BC61C237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E518-CE7E-4391-B0F2-7ECB42B6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9742-EDD0-44FD-8EC6-6C4950EA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CA37-BC9D-4644-BAFB-DE2879F4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F3E9-1D49-44D9-8C62-C4DEEB25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65CB-8F3D-4FC8-BDD2-44E1AAC5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5FD5-B248-4F2F-A6DB-014DCFBA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1C6F-0C9A-490F-9BEC-74922619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5E7-2905-4DD2-86FF-3879BEAE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0A4A-BD22-40D7-BAB3-F7CA4E61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29CC-1A1B-4F0D-8DEE-D4EDA182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4BD7-B164-4AA0-BDD0-CCD03099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DC4B-D10D-40C5-A891-571726E5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D59E-CA8F-4CFB-AF92-0D2E2416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87CC-6B38-439B-A01A-002B47B7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8AB9-49BE-42D0-96B4-A3C0F507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D70-D0BB-4DFA-9003-E7F08463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FB5-0F1A-4661-A43A-8948008B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9A56-A1A7-423E-B28D-002468A4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70BC-DF56-4A7D-B8A5-65E20585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6E4C-D01C-4851-A803-1CF37F4E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DCEC-EAA5-4330-96B6-F50D89501C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E799-61C8-4F05-891A-61840399842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4" name="图片 3" descr="timg"/>
          <p:cNvPicPr/>
          <p:nvPr/>
        </p:nvPicPr>
        <p:blipFill>
          <a:blip r:embed="rId1"/>
          <a:stretch/>
        </p:blipFill>
        <p:spPr>
          <a:xfrm>
            <a:off x="76320" y="61920"/>
            <a:ext cx="8991360" cy="687528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4"/>
          <p:cNvSpPr/>
          <p:nvPr/>
        </p:nvSpPr>
        <p:spPr>
          <a:xfrm>
            <a:off x="7278840" y="3808440"/>
            <a:ext cx="178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国幅员辽阔，有许多风景秀丽的地方，位于祖国南方的一个最大的岛屿，它就是台湾岛，那里有一个风景特别美丽的地方，吸引了中外游客，那个地方就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timg"/>
          <p:cNvPicPr/>
          <p:nvPr/>
        </p:nvPicPr>
        <p:blipFill>
          <a:blip r:embed="rId1"/>
          <a:stretch/>
        </p:blipFill>
        <p:spPr>
          <a:xfrm>
            <a:off x="419040" y="1120680"/>
            <a:ext cx="8039160" cy="524520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2"/>
          <p:cNvSpPr/>
          <p:nvPr/>
        </p:nvSpPr>
        <p:spPr>
          <a:xfrm>
            <a:off x="2597040" y="198360"/>
            <a:ext cx="406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名胜古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1"/>
          <p:cNvSpPr/>
          <p:nvPr/>
        </p:nvSpPr>
        <p:spPr>
          <a:xfrm>
            <a:off x="2293920" y="281160"/>
            <a:ext cx="52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这一段，你又知道了什么？是从哪里知道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"/>
          <p:cNvSpPr/>
          <p:nvPr/>
        </p:nvSpPr>
        <p:spPr>
          <a:xfrm>
            <a:off x="2513160" y="5762520"/>
            <a:ext cx="52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自己的话说说日月潭的由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"/>
          <p:cNvSpPr/>
          <p:nvPr/>
        </p:nvSpPr>
        <p:spPr>
          <a:xfrm>
            <a:off x="1514520" y="1278000"/>
            <a:ext cx="6386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日月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  )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湖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湖中央有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          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叫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岛把湖水分成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北边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     )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叫日潭；南边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)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叫月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"/>
          <p:cNvSpPr/>
          <p:nvPr/>
        </p:nvSpPr>
        <p:spPr>
          <a:xfrm>
            <a:off x="2023920" y="5875200"/>
            <a:ext cx="48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月潭不仅名字有趣，哪里的风景也非常优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1187280" y="3860640"/>
            <a:ext cx="16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名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著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外闻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708360" y="3860640"/>
            <a:ext cx="165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华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6443640" y="3933720"/>
            <a:ext cx="165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秀丽神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5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1"/>
          <p:cNvSpPr/>
          <p:nvPr/>
        </p:nvSpPr>
        <p:spPr>
          <a:xfrm>
            <a:off x="1319040" y="308772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日月潭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风光秀丽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吸引了许许多多的中外游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"/>
          <p:cNvSpPr/>
          <p:nvPr/>
        </p:nvSpPr>
        <p:spPr>
          <a:xfrm>
            <a:off x="2527200" y="5030640"/>
            <a:ext cx="40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什么说它风光秀丽？默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2"/>
          <p:cNvSpPr/>
          <p:nvPr/>
        </p:nvSpPr>
        <p:spPr>
          <a:xfrm>
            <a:off x="3278160" y="744480"/>
            <a:ext cx="25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月潭究竟是怎样的，听老师读课文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"/>
          <p:cNvSpPr/>
          <p:nvPr/>
        </p:nvSpPr>
        <p:spPr>
          <a:xfrm>
            <a:off x="5867280" y="744480"/>
            <a:ext cx="25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中告诉我们，日月潭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1"/>
          <p:cNvSpPr/>
          <p:nvPr/>
        </p:nvSpPr>
        <p:spPr>
          <a:xfrm>
            <a:off x="3992400" y="204840"/>
            <a:ext cx="30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两个自然段写了日月潭什么时候的风景？圈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5.jpg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1"/>
          <p:cNvSpPr/>
          <p:nvPr/>
        </p:nvSpPr>
        <p:spPr>
          <a:xfrm>
            <a:off x="1432080" y="217440"/>
            <a:ext cx="732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清晨，中午的日月潭景色各不相同，各有特色。喜欢清晨日月潭的举手，请你们读一读，其它同学闭上眼睛边听边想清晨的日月潭是怎样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"/>
          <p:cNvSpPr/>
          <p:nvPr/>
        </p:nvSpPr>
        <p:spPr>
          <a:xfrm>
            <a:off x="533520" y="863640"/>
            <a:ext cx="42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月潭给你留下了怎样的印象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3"/>
          <p:cNvSpPr/>
          <p:nvPr/>
        </p:nvSpPr>
        <p:spPr>
          <a:xfrm>
            <a:off x="2360520" y="1673280"/>
            <a:ext cx="29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隐隐约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"/>
          <p:cNvSpPr/>
          <p:nvPr/>
        </p:nvSpPr>
        <p:spPr>
          <a:xfrm>
            <a:off x="4044960" y="86364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什么是隐隐约约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6"/>
          <p:cNvSpPr/>
          <p:nvPr/>
        </p:nvSpPr>
        <p:spPr>
          <a:xfrm>
            <a:off x="2360520" y="3165480"/>
            <a:ext cx="29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薄薄的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7"/>
          <p:cNvSpPr/>
          <p:nvPr/>
        </p:nvSpPr>
        <p:spPr>
          <a:xfrm>
            <a:off x="1265400" y="3995640"/>
            <a:ext cx="59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这是一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_____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的美，请你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1"/>
          <p:cNvSpPr/>
          <p:nvPr/>
        </p:nvSpPr>
        <p:spPr>
          <a:xfrm>
            <a:off x="2744640" y="320364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说清晨的日月潭是隐约的美，那到了中午就不一样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男女分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说看日月潭的中午是一种怎样的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2"/>
          <p:cNvSpPr/>
          <p:nvPr/>
        </p:nvSpPr>
        <p:spPr>
          <a:xfrm>
            <a:off x="1881360" y="2263680"/>
            <a:ext cx="21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细雨中的日月潭也别有一番景象，让我们一起读一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3"/>
          <p:cNvSpPr/>
          <p:nvPr/>
        </p:nvSpPr>
        <p:spPr>
          <a:xfrm>
            <a:off x="4648320" y="2263680"/>
            <a:ext cx="21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象一下这景象特别像哪个童话中描写的景像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1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1187280" y="3860640"/>
            <a:ext cx="16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名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著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外闻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3708360" y="3860640"/>
            <a:ext cx="165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华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6443640" y="3933720"/>
            <a:ext cx="165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秀丽神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5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1"/>
          <p:cNvSpPr/>
          <p:nvPr/>
        </p:nvSpPr>
        <p:spPr>
          <a:xfrm>
            <a:off x="1319040" y="308772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日月潭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风光秀丽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，吸引了许许多多的中外游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"/>
          <p:cNvSpPr/>
          <p:nvPr/>
        </p:nvSpPr>
        <p:spPr>
          <a:xfrm>
            <a:off x="2527200" y="5030640"/>
            <a:ext cx="40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为什么说它风光秀丽？默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"/>
          <p:cNvSpPr/>
          <p:nvPr/>
        </p:nvSpPr>
        <p:spPr>
          <a:xfrm>
            <a:off x="596880" y="204840"/>
            <a:ext cx="76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喜欢哪个时候的日月潭呢？比赛读一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无论是哪个时候的日月潭，都那么美，用一个词形容就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2.jpg"/>
          <p:cNvPicPr/>
          <p:nvPr/>
        </p:nvPicPr>
        <p:blipFill>
          <a:blip r:embed="rId1"/>
          <a:stretch/>
        </p:blipFill>
        <p:spPr>
          <a:xfrm>
            <a:off x="-115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1"/>
          <p:cNvSpPr/>
          <p:nvPr/>
        </p:nvSpPr>
        <p:spPr>
          <a:xfrm>
            <a:off x="6308640" y="1536840"/>
            <a:ext cx="2008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潭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泥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深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"/>
          <p:cNvSpPr/>
          <p:nvPr/>
        </p:nvSpPr>
        <p:spPr>
          <a:xfrm>
            <a:off x="1096920" y="977760"/>
            <a:ext cx="19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深水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1692360" y="3716280"/>
            <a:ext cx="223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痕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足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名胜古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4716360" y="3789360"/>
            <a:ext cx="223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展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展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" descr="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3.jpg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文本框 1" descr=""/>
          <p:cNvPicPr/>
          <p:nvPr/>
        </p:nvPicPr>
        <p:blipFill>
          <a:blip r:embed="rId2"/>
          <a:stretch/>
        </p:blipFill>
        <p:spPr>
          <a:xfrm>
            <a:off x="1805040" y="2455920"/>
            <a:ext cx="620532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4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矩形 1"/>
          <p:cNvSpPr/>
          <p:nvPr/>
        </p:nvSpPr>
        <p:spPr>
          <a:xfrm>
            <a:off x="4932360" y="3990960"/>
            <a:ext cx="1727280" cy="57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"/>
          <p:cNvSpPr/>
          <p:nvPr/>
        </p:nvSpPr>
        <p:spPr>
          <a:xfrm>
            <a:off x="2681280" y="4726080"/>
            <a:ext cx="172728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6103800" y="4751280"/>
            <a:ext cx="172728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"/>
          <p:cNvSpPr/>
          <p:nvPr/>
        </p:nvSpPr>
        <p:spPr>
          <a:xfrm>
            <a:off x="698400" y="1873080"/>
            <a:ext cx="774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学习第一自然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矩形 1"/>
          <p:cNvSpPr/>
          <p:nvPr/>
        </p:nvSpPr>
        <p:spPr>
          <a:xfrm>
            <a:off x="6227640" y="5713560"/>
            <a:ext cx="266544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1660680" y="1622520"/>
            <a:ext cx="2663640" cy="1006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宋体"/>
              </a:rPr>
              <a:t>树木茂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0T00:52:05Z</dcterms:created>
  <dc:creator>Administrator</dc:creator>
  <dc:description/>
  <dc:language>en-US</dc:language>
  <cp:lastModifiedBy>noodee</cp:lastModifiedBy>
  <dcterms:modified xsi:type="dcterms:W3CDTF">2018-10-24T13:58:52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